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F8B-8DBA-451B-946E-D9B612AB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5501-2393-4D57-8ABF-CADEFAA4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778-F4D0-4A02-B0B9-BB25E19C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B26-FECA-4BE7-BB0F-384DE97A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486-70CE-4CF7-A3D7-7E1820FA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503-8A4D-406D-9EFC-F64B11F2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71CC-58A5-4DFF-AA76-B69A7CC4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08B4-3FE9-4309-BE01-E128C58C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AF1-101D-4FF3-9C41-DEF63C99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9AAB-CB7F-47AE-838C-11435C92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74F-324D-4FB9-9B27-1E7B758B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177-7B29-42AE-B764-713A6E9B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EC25-7ADB-4235-942F-380C315D70B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"/>
          <p:cNvPicPr/>
          <p:nvPr/>
        </p:nvPicPr>
        <p:blipFill>
          <a:blip r:embed="rId1"/>
          <a:stretch/>
        </p:blipFill>
        <p:spPr>
          <a:xfrm>
            <a:off x="2247840" y="2708280"/>
            <a:ext cx="5132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874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99640" y="1324080"/>
            <a:ext cx="7193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Guerre Tota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première guerre mediat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3 Imagen" descr=""/>
          <p:cNvPicPr/>
          <p:nvPr/>
        </p:nvPicPr>
        <p:blipFill>
          <a:blip r:embed="rId1"/>
          <a:stretch/>
        </p:blipFill>
        <p:spPr>
          <a:xfrm>
            <a:off x="2540160" y="2637000"/>
            <a:ext cx="4416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5892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s pertes humain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9 millions de m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0 millions de bless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4 Imagen" descr=""/>
          <p:cNvPicPr/>
          <p:nvPr/>
        </p:nvPicPr>
        <p:blipFill>
          <a:blip r:embed="rId1"/>
          <a:stretch/>
        </p:blipFill>
        <p:spPr>
          <a:xfrm>
            <a:off x="2066760" y="3068640"/>
            <a:ext cx="53168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rci pour votre aten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e 8 mai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92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s profonds change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éopolitiques et Soci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3 Imagen" descr=""/>
          <p:cNvPicPr/>
          <p:nvPr/>
        </p:nvPicPr>
        <p:blipFill>
          <a:blip r:embed="rId1"/>
          <a:stretch/>
        </p:blipFill>
        <p:spPr>
          <a:xfrm>
            <a:off x="1547640" y="2955960"/>
            <a:ext cx="2376720" cy="3138480"/>
          </a:xfrm>
          <a:prstGeom prst="rect">
            <a:avLst/>
          </a:prstGeom>
          <a:ln w="0">
            <a:noFill/>
          </a:ln>
        </p:spPr>
      </p:pic>
      <p:pic>
        <p:nvPicPr>
          <p:cNvPr id="47" name="5 Imagen" descr=""/>
          <p:cNvPicPr/>
          <p:nvPr/>
        </p:nvPicPr>
        <p:blipFill>
          <a:blip r:embed="rId2"/>
          <a:stretch/>
        </p:blipFill>
        <p:spPr>
          <a:xfrm>
            <a:off x="5148360" y="3057480"/>
            <a:ext cx="21603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s changements Géopolitiques (191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54180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92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s changements Géopolitiques (19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550728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5892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Révolution Russe (191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3 Imagen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4346640" cy="3097080"/>
          </a:xfrm>
          <a:prstGeom prst="rect">
            <a:avLst/>
          </a:prstGeom>
          <a:ln w="0">
            <a:noFill/>
          </a:ln>
        </p:spPr>
      </p:pic>
      <p:pic>
        <p:nvPicPr>
          <p:cNvPr id="57" name="4 Imagen" descr=""/>
          <p:cNvPicPr/>
          <p:nvPr/>
        </p:nvPicPr>
        <p:blipFill>
          <a:blip r:embed="rId2"/>
          <a:stretch/>
        </p:blipFill>
        <p:spPr>
          <a:xfrm>
            <a:off x="5508720" y="3213000"/>
            <a:ext cx="28969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5892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Société des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5 Imagen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32400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7191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es changements sociaux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ne nouvelle place pour les fem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6 Imagen" descr=""/>
          <p:cNvPicPr/>
          <p:nvPr/>
        </p:nvPicPr>
        <p:blipFill>
          <a:blip r:embed="rId1"/>
          <a:stretch/>
        </p:blipFill>
        <p:spPr>
          <a:xfrm>
            <a:off x="971640" y="2319480"/>
            <a:ext cx="2952720" cy="4316400"/>
          </a:xfrm>
          <a:prstGeom prst="rect">
            <a:avLst/>
          </a:prstGeom>
          <a:ln w="0">
            <a:noFill/>
          </a:ln>
        </p:spPr>
      </p:pic>
      <p:pic>
        <p:nvPicPr>
          <p:cNvPr id="64" name="7 Imagen" descr=""/>
          <p:cNvPicPr/>
          <p:nvPr/>
        </p:nvPicPr>
        <p:blipFill>
          <a:blip r:embed="rId2"/>
          <a:stretch/>
        </p:blipFill>
        <p:spPr>
          <a:xfrm>
            <a:off x="5219640" y="2319480"/>
            <a:ext cx="28083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874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99640" y="1324080"/>
            <a:ext cx="7193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Guerre Tota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trol de l’opinion et restriction des  libertés publ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3 Imagen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3801960" cy="2232000"/>
          </a:xfrm>
          <a:prstGeom prst="rect">
            <a:avLst/>
          </a:prstGeom>
          <a:ln w="0">
            <a:noFill/>
          </a:ln>
        </p:spPr>
      </p:pic>
      <p:pic>
        <p:nvPicPr>
          <p:cNvPr id="68" name="4 Imagen" descr=""/>
          <p:cNvPicPr/>
          <p:nvPr/>
        </p:nvPicPr>
        <p:blipFill>
          <a:blip r:embed="rId2"/>
          <a:stretch/>
        </p:blipFill>
        <p:spPr>
          <a:xfrm>
            <a:off x="4932360" y="2400480"/>
            <a:ext cx="331164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874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MIÈRE GUERRE MONDIAL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 Centennaire (1914-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99640" y="1324080"/>
            <a:ext cx="7193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Guerre Tota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mension psychologiques de la gu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10 Imagen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70308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9:52:06Z</dcterms:created>
  <dc:creator>MASTER</dc:creator>
  <dc:description/>
  <dc:language>en-US</dc:language>
  <cp:lastModifiedBy>Usuario</cp:lastModifiedBy>
  <dcterms:modified xsi:type="dcterms:W3CDTF">2014-05-08T18:54:13Z</dcterms:modified>
  <cp:revision>6</cp:revision>
  <dc:subject/>
  <dc:title>LA PREMIÈRE GUERRE MONDIALE I Centennaire (1914-1918)</dc:title>
</cp:coreProperties>
</file>